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AE1-B4C1-4C23-A270-3DA28780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633-C836-4CCD-96E7-FBC2396C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3F8BB-D6AB-48C9-A936-8B6D83EB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667FE-510C-449C-AEF0-7D1A4AEC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86DA4-D305-4146-864B-8844A378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FD7BD-BF8C-4055-909A-501AE2D7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1011A6-2372-4F2A-ABBB-6033EC0B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CC0322-4158-4BB4-9183-ACE3BC94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6796B-A706-455B-B9B6-A6CA9397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137B7-EC73-4B5F-B44E-EB56A901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2B177-FD31-40A5-9BF7-C86713FE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12C96-D4ED-4B0F-A904-8565E99B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2EB-5024-4B62-AEB6-460AA849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798D50-C233-48D4-8DFC-B0363092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2F0986-CDA4-415D-890B-DAE4308A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9BEAF3-3DFE-4556-A36E-513A1653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E7854-79B1-470D-B54B-71D8C1DD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E0BB6-8FDA-479F-A9B4-97DE84B1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39DD6-D9C9-4F59-AC20-8444F1BD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27A35-82CE-46E7-B2B2-87D5A3C9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C69F7-596F-46C3-9E57-BB02700F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9E0F2-02DF-4120-963C-688A928E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58AF52-8E54-458B-90F4-21073426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9E6-B7E0-44FF-8F79-E68C0580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A95DAB-AAD5-4D53-9D7F-6CB0EA3B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F5391D-9FF8-4E4D-83C3-93222336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227319-84E8-431A-B415-E2F84AC7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41A6FA-41AE-4B63-87C5-616B07E5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728A29-B9E1-4D30-9770-14C1BCC2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BD1A39-9F87-4BA0-971C-E4F9412E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1D4BD5-73FB-4103-91D0-37B9300A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04C3E2-D77A-4E21-B755-78E30CB4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2753A3-9392-46EC-ADEE-F2821589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9A82DB-AD62-4691-9403-0DB57D8F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891937-5794-4D62-A89F-50BF702F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035751-245C-41AF-92EC-3B4454DA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E686D1-361B-4544-811E-95F6657E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A1D0F-616D-49AE-89E1-213CB79C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AA4725-1E15-472C-89B7-E2B6C984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59EBD-FA2F-4C55-80C9-604FC67F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B9B5FF-0658-46E5-A65E-FF07F447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13D1CE-9441-4FD5-A1AE-1EAF8CBB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35181-A390-44A0-9649-56638FAF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9A5B0F-75FA-4F49-958D-CB2E907F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0CEB89-952A-479E-9C93-98F500C7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C69E8-B0D2-47C8-94BD-CA9AF070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D3D95-9301-4909-B865-998D195F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03A378-F7DC-405A-879F-5C847397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314D1-7F99-4E9C-9957-57851268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05D47D-1DC3-44A3-9DA2-811D3951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2B52F2-3900-4CAD-AD6A-D93E7DEC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790C069-80C3-4BAC-AD5C-6BFFB77C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6E4495-7A17-4820-846E-A04BB2EF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8A37EB-DC3F-4DE7-AD43-668FF024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9F9300-0E9C-4DAB-B380-43CA5299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666F80-6882-4CBC-B259-18D3CD04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B7C581-B3FE-4829-9137-A756B1CC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90AEE7-5E96-4FA4-A1D5-995658A9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E63FA7-67FE-431B-9FC4-297B77D3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801F81-F46C-4AB3-AA2F-238EF7AD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A26AB7-E479-4E8F-B1F8-13212A21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1FBEB1-FD56-4336-8E82-84409934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4E1D8-027C-4F3A-8852-5E018F82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2B1D24-D3E6-47E6-B410-965D3B0C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F68A9-A80B-4D54-A170-A0E079C6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ECFED-D5A2-4508-9219-D64B9A70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E08DF6-F405-4D49-96A8-4C600887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35081-0504-4A03-8142-6E5006F2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55114-61B3-4A25-BA8D-6B00F67B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A95943-3285-4394-AEB3-736611AC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30BBD-CB7D-4BCC-93E6-486A315E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0389D-DDA0-4873-80DD-836352C0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03B99-2327-451C-98E5-DC5BC6CB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EB97B-4EE8-4E06-97D0-4C85E480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D6E407-47F3-4BB9-8F43-D9202A80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02E55-D7B7-494D-8765-0BDA878F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6FE476-F762-4700-9E49-13DE0344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D40BCE-C0D6-4AFD-BDB6-AD40301E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35C608-D4AA-4169-B07B-F0BC59CB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D1C4AD-9C2D-405C-AF1A-2F55BA83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3F6E68-94B2-4FCE-9A23-05807BFA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F8F982-8D70-47D7-9C2A-643215D7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1881AC-FFC7-4954-B22B-B42A42E6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52C3D7-068D-47B8-97F6-FDB77B40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D2C4D3-23BF-4E86-864F-F48126B4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C512F0-50C0-4C5A-AEBB-286211C2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C7147E-577F-4BCE-AF85-44EEA330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11BC83-D129-456E-A242-0360C7F2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40B12E-1B8A-429A-A606-02C7A1B7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AE445-E035-45C4-BAA2-1F09C846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011665-6AE8-4AAC-8A8D-ECDCB822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15ABD5-471E-439D-8E5F-1899BDE8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B9D2-D483-45B3-BC46-FD943AD2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98CA1C-94B7-4029-B175-F52836DA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E05585-65F3-41CE-900B-61357296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711C22-285D-44B5-A26A-895F869B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024500-D3B2-4EB5-8D7E-4CAD7FFA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CCA58B-C4DE-4B72-B46D-D9DAAA27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729D50-8853-4588-8E1D-89F4C051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E5A1A3-1C7E-4560-BDDA-5025C15B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BFEFD5-CDA3-4811-82ED-4F5D40E8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72537B-0728-4170-B4B6-0684F1CF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53FDCB-8744-4E85-9951-A127D4F1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AB8845-C7E6-4817-8780-54222EA7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DF6AA4-5420-4511-A3C5-6F5DD285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5FA962-E3AE-4794-86DC-EAEABF48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727AA-8747-4B59-B54D-71B7B4F9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9E0E1B-69DA-455C-88E8-33D09F3F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F37A8D-0D9D-4A1B-88FA-A5301C9F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6ABF1A-19F8-42E6-AA78-1ED9804E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02A1DA-D928-424F-9865-04F50FEA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C43470-7844-42E3-8DD8-099FB2C8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1C2D44-6796-4DEE-B9F1-E0923262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32F67F-1C87-4339-9CFE-68BE59ED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452F67-735C-4F74-8A14-486F931F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696C60-DF16-47F5-A593-2DEE6614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6D86A-37FA-48D1-9154-E0305E3E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7FDB0-1312-452C-9B51-74B445F5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B64A84-581D-4F5C-85A3-67691358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C0565B-6DA7-45CA-BCAF-B8344A39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E3A6B4-E1BA-4963-95D3-A1AE44A0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965389-921F-4E0D-9B67-FDDDED09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405AB1-67CA-4BA9-B6D7-9A41A838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62C558-3B41-4773-9C31-C71F9B17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9CCCA6-7870-4B85-8839-010405DC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3A7E58-A5B5-444C-A844-01C2F390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8E63E5-3556-4DC2-AF6A-BB8FE4E9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EA47D1-79EF-4372-8B52-5ACF6553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722929-B2A3-4BBE-9FCA-0A9DA0E7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C83CA5-52E8-4B2A-80D1-BE0CE078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C6B565-86EF-4A17-AD11-C6E9BBC5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88E86E-2F32-40BB-BB70-D738FCF9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DFDE0D-705A-48D1-AEFA-2F70B9C1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A768C9-1DEA-46AC-AEE7-BEBBEF4F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6B2959-00BE-4972-8432-DFA20D6C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293D11-958E-4D8E-932C-479AB883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489A54-72DC-4351-833B-D9372AE8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98C77E-24AB-4C20-BFA6-6FB3727F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B72623-6335-45E7-BDF0-87F7A97B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4D5451-6CBF-4035-9B55-557BECF8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0F81FE-BFA8-47AE-99C9-C7BAC335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E3E744-670A-4154-988D-E070BB21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C60282-1227-472B-BD94-5BF5384A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862E5-C3F6-4E28-BAEE-F3E79E07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FCDB5-8A4F-48EB-8182-11A2AC66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712C38-B1D7-4F38-9CAF-82E41776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8CB8CC-2494-4B75-A7C6-F98EED07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A04B6-F908-4943-966A-4033CEF5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A93CD-E285-4F4A-8ABC-D50ACB61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B7506-AFBA-447E-8EDE-1AE24DA5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830B6-FC71-4A81-8502-FCB1AB2F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F76-70EF-4C77-BE86-A61BA17F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95DC2-3043-484A-B165-3F0C1158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17832-5F4A-4B6D-B01C-70C212AC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EAE21-0265-441A-ACCC-72A7329C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9E4A4-0A0F-4C4D-A15B-3BF65E9A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43720-7592-4F95-92BD-AAED7594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1D10D-DF84-4177-93F2-DE4EBD2F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32421-5372-414E-8ED3-D74816FB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9E0B8-CC93-4220-B20F-F0D97FFB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CB1598-EB76-41CD-8F2D-9AC36D19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780CCA-5CAC-43B7-AC47-B4EB3CC4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22F-884E-4903-BCB1-B11C42AD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BC30A7-B425-42D2-A934-CCFCDD22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C57E3E-4FC8-46AD-9302-096A727C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22A59D-3E33-400D-8346-DCAE1782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E13932-EA7D-4BA3-9062-5C4564C7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3F6D4F-9605-406F-A0AE-DD961B35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271290-B4EA-48E7-AB55-D406125A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F9D172-BA28-4BCF-826B-1D7D4E32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F04FDF-2419-4BC4-8D5D-2563C268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C638FB-F2CE-4282-8CFA-2C0BE277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BFF-80B7-41F8-83FD-FAFBCD45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C926-DC28-4753-9ACB-14506348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4F824F-7A87-4D50-9E5A-01A93931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8FBA6C-E014-4B6E-8E95-54B2F1D8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0AF767-2C06-4977-9C45-546DDA09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04C086-E8D6-4969-BB7A-5A6A5A5E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7CB5F0-F24A-4287-82DB-39AB7FD7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07E277-4F90-4A3B-B224-F1036108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1EA4EB-CD27-45E7-B31B-7D52D766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F87435-FA30-4505-859F-BB3694DE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D621DB-DE3C-4495-9A60-0C7DB390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0EC-5410-4DF9-BFAF-6A0CABF5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9BE6D5-6151-4DFE-A897-BF1CF8D7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441C44-3A6D-4A2C-8CDC-CEA6C4A9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884C44-1EE8-455A-B8E4-32B529AE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75E831-15A5-4277-AD14-65A2BF7D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6FAE6F-2493-4194-87A5-75FAD48F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ACC600-88A1-4E6A-97F3-1A18F1B7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DA8400-E8E6-4FC7-A07A-2B24A647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C9E867-E07F-44D3-B741-FE1AC047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E4B5D5-791F-400F-9A86-DA613838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D4B848-9245-45DD-B717-CF19F498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1CAB-E316-4666-83D9-4050399F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C62F98-5D3D-412B-B504-401BC6C3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57D226-9777-406C-9810-449EF864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67A7C7-BB7F-49AA-8091-C6B00580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C286A3-8160-4230-B64D-BCF61582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85F92A-8EFE-466B-970A-E2098EF9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AE3FD9-50A5-4B59-B856-7D9E04FC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EEB565-AFEC-4B19-BA3A-8C054111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B1BE10-20E0-4BCB-AC31-7B7492CD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06745D-C3B8-472D-8D93-3866E9D8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9843D8-DF07-4DB6-B675-BCE5FC19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791B-2449-45F0-95BC-5BA83D3A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6476C1-2FF0-4456-880E-430216CB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C6085E-357A-46D5-B03C-064BBD69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BF1E10-B1AE-4725-B1BB-79F4F0C3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E175BF-F123-44B7-A9C6-C37BA56A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C3576E-61D3-4BA1-9022-CD1E4D8C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9D6DEA-845D-4EB6-858E-6B41A251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4D66D5-5137-4974-A4AD-7A45E61C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37F55-28B8-4A0C-94FB-008976A6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8E047-AA8B-402C-8002-09736C7B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2DB08-CD21-465E-A2EF-D77D1E14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BA770-D7D1-4AB9-B0CD-2FA9233BF95A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7BAD3-26A5-4D81-AD6E-A815D83F8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EA255-03FD-40E6-BC5C-81CB2B1A0418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4591D-8424-407B-B093-9CA764777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943F1-69C8-4BC1-8134-3CC940D9A7DA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ED4B4-15CE-447B-AA3B-1CD783DA8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C2BF9D-70B2-4AC2-8D4C-4F5A047E9E16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A138F-6076-4923-BC2E-185DEEAEA5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81EB4-A93E-4867-8CB3-0675DC148074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40534-6491-456F-9424-A98F45E21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88D1F-BEB7-4547-8838-FFB23D53C1D4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0A80B-7869-4F4F-B912-DB9612F2F787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E5EBF-7FD8-41EA-8973-A3A65CE5D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8EA09-0873-4BC8-83EA-39C5B4B05CD0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5B00D-A80A-48EF-AD15-F2D390EDA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E82B9-0C99-4657-A841-B8BDDAFAD9AE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0B344-5D06-4F49-AEB4-A809CDCA1F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61DCF-633B-4D57-94F6-C5C30740F926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C79F3-75F5-4E3B-BB00-C0326C81C4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C63FD-83DC-4B0B-949D-6A0D4CC98EE0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F5337-1ABC-4A74-83DB-80AD7687FF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FC39C-CE6C-4414-A872-D6C032912250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D7181-BE8E-4073-98AC-55A00C363270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9A678-92A9-4AB8-A20F-8561D39F4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0FE86-C850-4A01-99E5-C84A80F5B555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7AFDC-D842-4789-AB34-E4CDC674D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34B04-20B4-4649-8873-28B6BE053062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296DE-A5FF-4B93-AE8A-C0DC2B2C2F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23C25-9273-4911-8AF1-F76C308B8E17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476CD-8B8D-4546-A3D9-D67F0429C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B0ECB-1157-41AA-B25D-43C30862F568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40959-2C99-455E-BBD5-41711ABD2CE5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BE22F-40C8-451C-A7C6-57564838A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3A6B6-D819-4DC1-A50E-279BFCAEBA56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50C89-68B1-4C99-BFDB-A617BA4CA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AEF15-646A-425B-9B46-906CCA72D472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CAC1C-7F85-4B37-A461-B45C3D033B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E3180-6FE9-4AE9-8150-44DD330D7386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FAA92-3557-410E-8588-B4194D310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ocusonforests.org/large/westafricamap.htm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66"/>
                </a:solidFill>
                <a:latin typeface="Rockwell"/>
              </a:rPr>
              <a:t>Life in West Africa</a:t>
            </a:r>
            <a:endParaRPr b="0" lang="en-US" sz="28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Mr. Rush/ Mr. Farrell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Go Muskies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West African Map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c5fbc"/>
                </a:solidFill>
                <a:uFillTx/>
                <a:latin typeface="Rockwell"/>
                <a:hlinkClick r:id="rId1"/>
              </a:rPr>
              <a:t>http://www.focusonforests.org/large/westafricamap.htm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What did you learn?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at did you learn about West African. . 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Daily Life/ Poverty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Cultur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Treatment of Family/ Elderly/ Stranger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Food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Religion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Government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Education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West African Lif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96800" y="2447640"/>
            <a:ext cx="365760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Listen to Speaker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sk questions of the speaker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Compare/ contrast the speaker and Ishmael Beah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Develop 3 questions for further study. 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400640" y="2447640"/>
            <a:ext cx="365760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Explain how political and economic conditions, resources, geographic locations and cultures have contributed to cooperation and conflict.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96800" y="2070000"/>
            <a:ext cx="3657600" cy="324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tIns="0" bIns="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What you will do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400640" y="2070000"/>
            <a:ext cx="3657600" cy="324000"/>
          </a:xfrm>
          <a:prstGeom prst="rect">
            <a:avLst/>
          </a:prstGeom>
          <a:solidFill>
            <a:srgbClr val="a3a3c2"/>
          </a:solidFill>
          <a:ln w="0">
            <a:noFill/>
          </a:ln>
        </p:spPr>
        <p:txBody>
          <a:bodyPr tIns="0" bIns="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What you will learn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66"/>
                </a:solidFill>
                <a:latin typeface="Rockwell"/>
              </a:rPr>
              <a:t>How does life in ___________ compare with Ishmael Beah’s life in Sierra Leone?</a:t>
            </a:r>
            <a:br>
              <a:rPr sz="3200"/>
            </a:br>
            <a:endParaRPr b="0" lang="en-US" sz="32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1)  What are 3 similarities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2) What are 3 differences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3)  What are 2 things you still want to know about life in West Africa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4)  Would you want to visit?  Why or Why not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20:26:00Z</dcterms:created>
  <dc:creator>Craig Rush</dc:creator>
  <dc:description/>
  <dc:language>en-US</dc:language>
  <cp:lastModifiedBy>Craig Rush</cp:lastModifiedBy>
  <dcterms:modified xsi:type="dcterms:W3CDTF">2011-01-17T20:35:36Z</dcterms:modified>
  <cp:revision>1</cp:revision>
  <dc:subject/>
  <dc:title>Life in West Africa</dc:title>
</cp:coreProperties>
</file>